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3CA-69DA-4DF1-AF1B-E547F6C0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672-EC25-4EE2-B5FC-211BB736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97C-F778-4735-BAB0-8FD818DF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CCBF-8DE0-46B4-8146-E53F1BFA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8DE0-EFFF-41CC-B2B2-39ACEE7D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F405-B454-41F1-BD03-6D99E6AE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F200-3AB8-4C0B-91D0-20C91942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EA61-2824-4251-950A-1AEB0D1F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8117-3EBF-42FB-8B29-BE21D9B2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6C25-8103-4852-ABC0-616DAA8F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E3CC-4400-4F29-AAD6-D608BD53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7A8-4F4B-427B-B090-95AB792A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0B44-E920-48EA-BD8F-AF8E0889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CADC-DCE0-4C33-ACE0-F9C44CAC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F065-EFA2-4668-B4BC-EEADC912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366D-CAA6-461C-A51F-C6BA82FC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9744-A1FE-4436-A869-AC8DDADD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CC3-3C2B-44F0-91E6-E373F576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5803-0D9A-4648-9842-5221E290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E53-B94A-4FBF-8179-348C3A8C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9E9-06D8-4E9E-89A0-810AB38E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B3D-5013-420C-93EA-2A37F01E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EB2-0735-42C8-BB89-A55A4415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AC7E-86E8-429A-BA28-95482182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324E-89F7-4212-8B65-207DEC83E4DD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14440" y="6362640"/>
            <a:ext cx="71532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                                                                                          </a:t>
            </a:r>
            <a:fld id="{19BCD749-EF5A-40F1-BF69-92770A4DABC6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:\PO BA  RD\_Arbeitsanw_Prozesse\_RD_BA_Prozesse\Presentations_RD_BA_Abteilung \ Allgemein RD BA \ BA Function RD und TPM_0605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4721-AFF8-48EE-9251-70F3928CF42B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1520" y="6362640"/>
            <a:ext cx="71532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2/02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:\PO BA  RD\_Arbeitsanweisungen_Prozesse_Handbücher\_RD_BA_Prozesse\Presentations_RD_BA_Abteilung \ BA Function Product Develop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2395440"/>
            <a:ext cx="842472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BenQ 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BA Function – Research &amp;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      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Technical Projec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591080"/>
            <a:ext cx="5327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laus Win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MG RD 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24.05.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33360" y="1308240"/>
            <a:ext cx="8486640" cy="3921120"/>
          </a:xfrm>
          <a:prstGeom prst="rect">
            <a:avLst/>
          </a:prstGeom>
          <a:solidFill>
            <a:srgbClr val="ccffff">
              <a:alpha val="2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01992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a0e66"/>
                </a:solidFill>
                <a:latin typeface="Arial"/>
              </a:rPr>
              <a:t>4.    R&amp;D Key Figures…….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688760"/>
            <a:ext cx="835956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10 R&amp;D Sit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- Europe:  Munich, Kamp-Lintfort, Aalborg (untill 31.05.06), Wroclaw, Manau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- Asia:       Taipei, Hsinchu, Beijing, Suzhou, India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Ca. 2.000 R&amp;D Employees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R&amp;D Budget:   ca. 350 Mill. Euro (thereof ca. for 100‘ external orders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Investment:      ca. 20 Mill. Euro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Administration of  &gt; 2.000 external orders per year incl. handling of invoices and accruals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R&amp;D projects Europe:  60 current products, 100 predevelopments, 100 components,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                                              </a:t>
            </a: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20 Basics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Times New Roman"/>
              </a:rPr>
              <a:t>R&amp;D projects Asia tbd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5720" y="549000"/>
            <a:ext cx="701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a0e66"/>
                </a:solidFill>
                <a:latin typeface="Times New Roman"/>
              </a:rPr>
              <a:t>Outline</a:t>
            </a:r>
            <a:br>
              <a:rPr sz="3600"/>
            </a:br>
            <a:r>
              <a:rPr b="0" lang="zh-TW" sz="2400" spc="-1" strike="noStrike">
                <a:solidFill>
                  <a:srgbClr val="3a0e66"/>
                </a:solidFill>
                <a:latin typeface="Times New Roman"/>
              </a:rPr>
              <a:t>Department: BenQ Mobile RD BA / TPM BA</a:t>
            </a:r>
            <a:r>
              <a:rPr b="1" lang="zh-TW" sz="2400" spc="-1" strike="noStrike">
                <a:solidFill>
                  <a:srgbClr val="3a0e66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zh-TW" sz="2400" spc="-1" strike="noStrike">
                <a:solidFill>
                  <a:srgbClr val="3a0e66"/>
                </a:solidFill>
                <a:latin typeface="Times New Roman"/>
              </a:rPr>
              <a:t>1. Introduction and Organizational Embedding </a:t>
            </a:r>
            <a:br>
              <a:rPr sz="2400"/>
            </a:br>
            <a:r>
              <a:rPr b="0" lang="zh-TW" sz="2400" spc="-1" strike="noStrike">
                <a:solidFill>
                  <a:srgbClr val="3a0e66"/>
                </a:solidFill>
                <a:latin typeface="Times New Roman"/>
              </a:rPr>
              <a:t>2. Task Description &amp; Responsibilities</a:t>
            </a:r>
            <a:br>
              <a:rPr sz="2400"/>
            </a:br>
            <a:r>
              <a:rPr b="0" lang="zh-TW" sz="2400" spc="-1" strike="noStrike">
                <a:solidFill>
                  <a:srgbClr val="3a0e66"/>
                </a:solidFill>
                <a:latin typeface="Times New Roman"/>
              </a:rPr>
              <a:t>3. Specific Challenges in CY2006</a:t>
            </a:r>
            <a:br>
              <a:rPr sz="2400"/>
            </a:br>
            <a:r>
              <a:rPr b="0" lang="zh-TW" sz="2400" spc="-1" strike="noStrike">
                <a:solidFill>
                  <a:srgbClr val="3a0e66"/>
                </a:solidFill>
                <a:latin typeface="Times New Roman"/>
              </a:rPr>
              <a:t>4. Department Key Data CY2006</a:t>
            </a:r>
            <a:br>
              <a:rPr sz="2800"/>
            </a:b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376440" y="981000"/>
            <a:ext cx="373572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8000" y="981000"/>
            <a:ext cx="321480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09160"/>
            <a:ext cx="8583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Organizational Embedding (I/III)</a:t>
            </a:r>
            <a:br>
              <a:rPr sz="2400"/>
            </a:br>
            <a:r>
              <a:rPr b="0" lang="en-US" sz="20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Arial"/>
              </a:rPr>
              <a:t>BMG RD BA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1700280"/>
            <a:ext cx="1470240" cy="33400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21400" y="1941480"/>
            <a:ext cx="124956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Latin Americas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LAM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Christian Hergenhan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</a:rPr>
              <a:t>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21400" y="2552760"/>
            <a:ext cx="125100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Eastern Europe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EE BA)</a:t>
            </a:r>
            <a:br>
              <a:rPr sz="800"/>
            </a:b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Gerd Schwand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21400" y="3181320"/>
            <a:ext cx="125100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Western Europe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WE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Lars Wink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21400" y="3792600"/>
            <a:ext cx="125100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APAC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Marie Yeo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</a:rPr>
              <a:t>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5480" y="5200560"/>
            <a:ext cx="110808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Export Control /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  <a:ea typeface="文鼎中黑"/>
              </a:rPr>
              <a:t>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ustoms Offi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Thomas Dietr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25800" y="2060640"/>
            <a:ext cx="124776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Sales Oper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ontrolling (SO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Matthew Good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36960" y="2685960"/>
            <a:ext cx="124956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Pricing Office (PO)</a:t>
            </a:r>
            <a:br>
              <a:rPr sz="800"/>
            </a:b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Daniela Stomberg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  <a:ea typeface="文鼎中黑"/>
              </a:rPr>
              <a:t>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25800" y="3332160"/>
            <a:ext cx="124956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ategory Mgmt.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CM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Dr. Roland Schmid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25800" y="3957480"/>
            <a:ext cx="124956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ustomer Care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Arial"/>
              </a:rPr>
              <a:t>(CC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Axel von Cam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5202360"/>
            <a:ext cx="110808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ompliance </a:t>
            </a:r>
            <a:br>
              <a:rPr sz="800"/>
            </a:b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Officer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  <a:ea typeface="文鼎中黑"/>
              </a:rPr>
              <a:t>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Dr. Jörg Wilhe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88120" y="2060640"/>
            <a:ext cx="124776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Planning &amp; Contro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P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Daniela Meix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8400" y="2700360"/>
            <a:ext cx="124956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IT</a:t>
            </a:r>
            <a:br>
              <a:rPr sz="800"/>
            </a:b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Jürgen The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86320" y="3327480"/>
            <a:ext cx="124956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orporate 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Peter Wistok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86320" y="3962520"/>
            <a:ext cx="124956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Aud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Alfred Rä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40280" y="5202360"/>
            <a:ext cx="110808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Data Security </a:t>
            </a:r>
            <a:br>
              <a:rPr sz="800"/>
            </a:b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Officer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  <a:ea typeface="文鼎中黑"/>
              </a:rPr>
              <a:t>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Ralph Ha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33920" y="1038240"/>
            <a:ext cx="124776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Controlling (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"/>
              </a:rPr>
              <a:t>Lydia Som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3"/>
            <a:endCxn id="91" idx="0"/>
          </p:cNvCxnSpPr>
          <p:nvPr/>
        </p:nvCxnSpPr>
        <p:spPr>
          <a:xfrm>
            <a:off x="5891040" y="1300320"/>
            <a:ext cx="2153520" cy="39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7" idx="1"/>
            <a:endCxn id="98" idx="1"/>
          </p:cNvCxnSpPr>
          <p:nvPr/>
        </p:nvCxnSpPr>
        <p:spPr>
          <a:xfrm flipH="1" flipV="1" rot="10800000">
            <a:off x="3924720" y="2322000"/>
            <a:ext cx="11880" cy="627840"/>
          </a:xfrm>
          <a:prstGeom prst="bentConnector3">
            <a:avLst>
              <a:gd name="adj1" fmla="val -20562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98" idx="1"/>
            <a:endCxn id="99" idx="1"/>
          </p:cNvCxnSpPr>
          <p:nvPr/>
        </p:nvCxnSpPr>
        <p:spPr>
          <a:xfrm flipV="1" rot="10800000">
            <a:off x="3925080" y="2948400"/>
            <a:ext cx="11880" cy="648360"/>
          </a:xfrm>
          <a:prstGeom prst="bentConnector3">
            <a:avLst>
              <a:gd name="adj1" fmla="val 21562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99" idx="1"/>
            <a:endCxn id="100" idx="1"/>
          </p:cNvCxnSpPr>
          <p:nvPr/>
        </p:nvCxnSpPr>
        <p:spPr>
          <a:xfrm flipH="1" flipV="1" rot="10800000">
            <a:off x="3924720" y="3596040"/>
            <a:ext cx="2520" cy="624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3" idx="3"/>
            <a:endCxn id="104" idx="3"/>
          </p:cNvCxnSpPr>
          <p:nvPr/>
        </p:nvCxnSpPr>
        <p:spPr>
          <a:xfrm>
            <a:off x="6627960" y="2963880"/>
            <a:ext cx="8640" cy="629280"/>
          </a:xfrm>
          <a:prstGeom prst="bentConnector3">
            <a:avLst>
              <a:gd name="adj1" fmla="val 29782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4" idx="3"/>
            <a:endCxn id="105" idx="3"/>
          </p:cNvCxnSpPr>
          <p:nvPr/>
        </p:nvCxnSpPr>
        <p:spPr>
          <a:xfrm>
            <a:off x="6635880" y="3592440"/>
            <a:ext cx="2160" cy="634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3" idx="3"/>
            <a:endCxn id="102" idx="3"/>
          </p:cNvCxnSpPr>
          <p:nvPr/>
        </p:nvCxnSpPr>
        <p:spPr>
          <a:xfrm flipV="1">
            <a:off x="6627960" y="2322000"/>
            <a:ext cx="8640" cy="642240"/>
          </a:xfrm>
          <a:prstGeom prst="bentConnector3">
            <a:avLst>
              <a:gd name="adj1" fmla="val 297826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7424640" y="4416480"/>
            <a:ext cx="124956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hina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Guido Uhle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</a:rPr>
              <a:t>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9680" y="1681200"/>
            <a:ext cx="3146400" cy="3260520"/>
          </a:xfrm>
          <a:prstGeom prst="rect">
            <a:avLst/>
          </a:prstGeom>
          <a:solidFill>
            <a:srgbClr val="c0c0c0">
              <a:alpha val="4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  <a:ea typeface="文鼎中黑"/>
              </a:rPr>
              <a:t>Product House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  <a:ea typeface="文鼎中黑"/>
              </a:rPr>
              <a:t>Lydia So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1360" y="2081160"/>
            <a:ext cx="3075120" cy="617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  <a:ea typeface="文鼎中黑"/>
              </a:rPr>
              <a:t>Research &amp; Development BA and </a:t>
            </a: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Technical Product Mgmt.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RD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Klaus Wingens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3160" y="2793960"/>
            <a:ext cx="307476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Supply Chain Management and Strategic Procurement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SCM/SP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Ingrid Jägering </a:t>
            </a:r>
            <a:r>
              <a:rPr b="0" lang="en-US" sz="900" spc="-1" strike="noStrike" baseline="50000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160" y="3513240"/>
            <a:ext cx="307476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Product House BA As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(PH BA, As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Johann Gött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3760" y="946080"/>
            <a:ext cx="129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roduct House 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41160" y="952560"/>
            <a:ext cx="121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8000" y="5877000"/>
            <a:ext cx="3024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1) located in Sao Paolo, Brazi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2) located in Taipei, assigned to Product House BA Asi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3) located in Shanghai, assigned to Product House BA Asi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88360" y="404640"/>
            <a:ext cx="17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ffective April 1st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43200" y="957240"/>
            <a:ext cx="174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egional Management 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981000"/>
            <a:ext cx="1871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0" y="5877000"/>
            <a:ext cx="3024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4) as of 1st May 2006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5) subordinated to Corporate Service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0e66"/>
                </a:solidFill>
                <a:latin typeface="Arial"/>
              </a:rPr>
              <a:t>6) subordinated</a:t>
            </a:r>
            <a:r>
              <a:rPr b="0" lang="en-US" sz="700" spc="-1" strike="noStrike">
                <a:solidFill>
                  <a:srgbClr val="3a0e66"/>
                </a:solidFill>
                <a:latin typeface="Arial"/>
                <a:ea typeface="文鼎中黑"/>
              </a:rPr>
              <a:t> to Audi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27600" y="4591080"/>
            <a:ext cx="124920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Arial"/>
              </a:rPr>
              <a:t>Quality Management B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Arial"/>
              </a:rPr>
              <a:t>(QM B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Carlos Schm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73720" y="4581360"/>
            <a:ext cx="124920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BA &amp; Fin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Program Manager</a:t>
            </a:r>
            <a:br>
              <a:rPr sz="800"/>
            </a:br>
            <a:r>
              <a:rPr b="0" lang="en-US" sz="800" spc="-1" strike="noStrike">
                <a:solidFill>
                  <a:srgbClr val="3a0e66"/>
                </a:solidFill>
                <a:latin typeface="Arial"/>
              </a:rPr>
              <a:t>Patricia Höglme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05" idx="3"/>
            <a:endCxn id="128" idx="3"/>
          </p:cNvCxnSpPr>
          <p:nvPr/>
        </p:nvCxnSpPr>
        <p:spPr>
          <a:xfrm flipH="1">
            <a:off x="6622560" y="4225680"/>
            <a:ext cx="13680" cy="619560"/>
          </a:xfrm>
          <a:prstGeom prst="bentConnector3">
            <a:avLst>
              <a:gd name="adj1" fmla="val -1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00" idx="1"/>
            <a:endCxn id="127" idx="1"/>
          </p:cNvCxnSpPr>
          <p:nvPr/>
        </p:nvCxnSpPr>
        <p:spPr>
          <a:xfrm flipH="1" flipV="1" rot="10800000">
            <a:off x="3924720" y="4220640"/>
            <a:ext cx="2520" cy="634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16" idx="0"/>
            <a:endCxn id="107" idx="1"/>
          </p:cNvCxnSpPr>
          <p:nvPr/>
        </p:nvCxnSpPr>
        <p:spPr>
          <a:xfrm flipH="1" flipV="1" rot="5400000">
            <a:off x="2982960" y="29520"/>
            <a:ext cx="371880" cy="2912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07" idx="2"/>
            <a:endCxn id="97" idx="1"/>
          </p:cNvCxnSpPr>
          <p:nvPr/>
        </p:nvCxnSpPr>
        <p:spPr>
          <a:xfrm rot="5400000">
            <a:off x="4215960" y="1280880"/>
            <a:ext cx="751320" cy="1332720"/>
          </a:xfrm>
          <a:prstGeom prst="bentConnector4">
            <a:avLst>
              <a:gd name="adj1" fmla="val 31879"/>
              <a:gd name="adj2" fmla="val 11715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07" idx="2"/>
            <a:endCxn id="102" idx="3"/>
          </p:cNvCxnSpPr>
          <p:nvPr/>
        </p:nvCxnSpPr>
        <p:spPr>
          <a:xfrm flipH="1" rot="16200000">
            <a:off x="5571360" y="1257480"/>
            <a:ext cx="751320" cy="1378800"/>
          </a:xfrm>
          <a:prstGeom prst="bentConnector4">
            <a:avLst>
              <a:gd name="adj1" fmla="val 31879"/>
              <a:gd name="adj2" fmla="val 11658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958360" y="1353960"/>
            <a:ext cx="1040400" cy="4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a0e66"/>
                </a:solidFill>
                <a:latin typeface="Arial"/>
                <a:ea typeface="文鼎中黑"/>
              </a:rPr>
              <a:t>Executiv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3a0e66"/>
                </a:solidFill>
                <a:latin typeface="Arial"/>
                <a:ea typeface="文鼎中黑"/>
              </a:rPr>
              <a:t>Project Man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3a0e66"/>
                </a:solidFill>
                <a:latin typeface="Arial"/>
                <a:ea typeface="文鼎中黑"/>
              </a:rPr>
              <a:t>John Longhi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07" idx="3"/>
            <a:endCxn id="134" idx="0"/>
          </p:cNvCxnSpPr>
          <p:nvPr/>
        </p:nvCxnSpPr>
        <p:spPr>
          <a:xfrm>
            <a:off x="5891040" y="1299960"/>
            <a:ext cx="588240" cy="54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9600" y="115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buClr>
                <a:srgbClr val="3a0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  <a:ea typeface="文鼎中黑"/>
              </a:rPr>
              <a:t>Organizational Embedding (II/I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744480"/>
            <a:ext cx="87854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730760" y="1125360"/>
            <a:ext cx="4176720" cy="4896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9640" y="1125360"/>
            <a:ext cx="8364600" cy="4896000"/>
            <a:chOff x="539640" y="1125360"/>
            <a:chExt cx="8364600" cy="4896000"/>
          </a:xfrm>
        </p:grpSpPr>
        <p:sp>
          <p:nvSpPr>
            <p:cNvPr id="140" name=""/>
            <p:cNvSpPr/>
            <p:nvPr/>
          </p:nvSpPr>
          <p:spPr>
            <a:xfrm>
              <a:off x="554040" y="1125360"/>
              <a:ext cx="4176720" cy="489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200000">
              <a:off x="-1678320" y="3343320"/>
              <a:ext cx="4896000" cy="459720"/>
            </a:xfrm>
            <a:prstGeom prst="rect">
              <a:avLst/>
            </a:prstGeom>
            <a:solidFill>
              <a:srgbClr val="00cc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3a0e66"/>
                  </a:solidFill>
                  <a:latin typeface="Arial"/>
                  <a:ea typeface="文鼎中黑"/>
                </a:rPr>
                <a:t>Suppli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9440" y="1916280"/>
              <a:ext cx="5975280" cy="331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ff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47640" y="4878360"/>
              <a:ext cx="5977080" cy="33732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Arial"/>
                  <a:ea typeface="文鼎中黑"/>
                </a:rPr>
                <a:t>BMG internal interfacing depart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6195600" y="3343320"/>
              <a:ext cx="4896000" cy="459720"/>
            </a:xfrm>
            <a:prstGeom prst="rect">
              <a:avLst/>
            </a:prstGeom>
            <a:solidFill>
              <a:srgbClr val="800080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3a0e66"/>
                  </a:solidFill>
                  <a:latin typeface="Arial"/>
                  <a:ea typeface="文鼎中黑"/>
                </a:rPr>
                <a:t>Custom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1440" y="1125360"/>
              <a:ext cx="8362800" cy="33732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Arial"/>
                  <a:ea typeface="文鼎中黑"/>
                </a:rPr>
                <a:t>BMG external interfacing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9600" y="23796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buClr>
                <a:srgbClr val="3a0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  <a:ea typeface="文鼎中黑"/>
              </a:rPr>
              <a:t>Organizational Embedding (III/III)</a:t>
            </a:r>
            <a:br>
              <a:rPr sz="2400"/>
            </a:br>
            <a:r>
              <a:rPr b="0" lang="zh-TW" sz="2000" spc="-1" strike="noStrike">
                <a:solidFill>
                  <a:srgbClr val="3a0e66"/>
                </a:solidFill>
                <a:latin typeface="Arial"/>
                <a:ea typeface="文鼎中黑"/>
              </a:rPr>
              <a:t>BMG RD BA – Internal / External Interf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3063960"/>
            <a:ext cx="115092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4002120"/>
            <a:ext cx="115128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68360" y="2130480"/>
            <a:ext cx="115128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BA 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2130480"/>
            <a:ext cx="115092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H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41800" y="3065400"/>
            <a:ext cx="1150920" cy="7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D B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2160" y="2133720"/>
            <a:ext cx="115092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TM 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89800" y="3070080"/>
            <a:ext cx="1150920" cy="7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4000680"/>
            <a:ext cx="115092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CM BA 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9080" y="3933720"/>
            <a:ext cx="1150920" cy="7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65800" y="3933720"/>
            <a:ext cx="1151280" cy="7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68720" y="429264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429264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T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492360" y="378936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2360" y="285264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364000" y="3787920"/>
            <a:ext cx="43200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58000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364000" y="278136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858920" y="1773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43640" y="1413000"/>
            <a:ext cx="144144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160020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KP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1844640"/>
            <a:ext cx="93672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79640" y="1413000"/>
            <a:ext cx="144144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16002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External suppli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20364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24000" y="260280"/>
            <a:ext cx="77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  <a:ea typeface="文鼎中黑"/>
              </a:rPr>
              <a:t>2.    Task Description &amp; Responsibilities         (1)</a:t>
            </a:r>
            <a:br>
              <a:rPr sz="2400"/>
            </a:br>
            <a:r>
              <a:rPr b="0" lang="zh-TW" sz="2000" spc="-1" strike="noStrike">
                <a:solidFill>
                  <a:srgbClr val="3a0e66"/>
                </a:solidFill>
                <a:latin typeface="Arial"/>
                <a:ea typeface="文鼎中黑"/>
              </a:rPr>
              <a:t>BMG RD 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411200"/>
            <a:ext cx="8075520" cy="331308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esponsibility Financial Controlling  (RD BA 1)</a:t>
            </a:r>
            <a:r>
              <a:rPr b="0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dministration and coordination of all financial issues within all R&amp;D and TPM departments, li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arget setting for cost, H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de-DE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mercial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esponsibility of all purchase orders (e.g. consultants, inve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de-DE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a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lculation of capacities (productive hours) and hourly rates</a:t>
            </a:r>
            <a:r>
              <a:rPr b="0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Definition of cost center and department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udgeting, reporting, forecasting and controlling of all financial figures incl. deviation analy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within depar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Ensure cost flow (e.g. invoices). Financial process administration (e.g. calculation of accru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Key User SAP Project System (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4000" y="260280"/>
            <a:ext cx="77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  <a:ea typeface="文鼎中黑"/>
              </a:rPr>
              <a:t>2.    Task Description &amp; Responsibilities         (2)</a:t>
            </a:r>
            <a:br>
              <a:rPr sz="2400"/>
            </a:br>
            <a:r>
              <a:rPr b="0" lang="zh-TW" sz="2000" spc="-1" strike="noStrike">
                <a:solidFill>
                  <a:srgbClr val="3a0e66"/>
                </a:solidFill>
                <a:latin typeface="Arial"/>
                <a:ea typeface="文鼎中黑"/>
              </a:rPr>
              <a:t>BMG RD 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1052640"/>
            <a:ext cx="8558280" cy="360036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esponsibility Project Controlling (Functional Controlling) RD B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dministration and coordination of all project related issues within R&amp;D and Intern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Forecasting and budgeting of product projects, predevelopments, components and basic 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Defining, optimizing and redesigning of processes and value flow (e.g. accounting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s, consultants orders of SCM for R&amp;D projec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Controlling and Reporting (gap analysis and driving of measures, defining and driving productivity measur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or project related costs, transparency in controlling and repor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Administration of Projects within SAP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Operational product cost cont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Product-cost related BA support of Ramp-up Team and Rea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BA Support product-specific EOL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Provisions Management for supplier liabilities/special t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6440" y="4797360"/>
            <a:ext cx="8558280" cy="122400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Overall Responsibiliti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he Business Administrator is responsible for all financial and commercial aspects within its function (RD and TP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Ensure compliance with internal and external rules and guidelines within the area of functional respons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50920" y="836640"/>
            <a:ext cx="864216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980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</a:rPr>
              <a:t>2.    Task Description &amp; Responsibilities         (3)</a:t>
            </a:r>
            <a:br>
              <a:rPr sz="2400"/>
            </a:br>
            <a:r>
              <a:rPr b="1" lang="zh-TW" sz="2000" spc="-1" strike="noStrike">
                <a:solidFill>
                  <a:srgbClr val="3a0e66"/>
                </a:solidFill>
                <a:latin typeface="Arial"/>
              </a:rPr>
              <a:t>         </a:t>
            </a:r>
            <a:r>
              <a:rPr b="0" lang="zh-TW" sz="2000" spc="-1" strike="noStrike">
                <a:solidFill>
                  <a:srgbClr val="3a0e66"/>
                </a:solidFill>
                <a:latin typeface="Arial"/>
              </a:rPr>
              <a:t>BMG RD BA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0" name=""/>
          <p:cNvSpPr/>
          <p:nvPr/>
        </p:nvSpPr>
        <p:spPr>
          <a:xfrm>
            <a:off x="3792600" y="1190520"/>
            <a:ext cx="230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96880" y="2089080"/>
            <a:ext cx="7733880" cy="3838320"/>
            <a:chOff x="596880" y="2089080"/>
            <a:chExt cx="7733880" cy="3838320"/>
          </a:xfrm>
        </p:grpSpPr>
        <p:sp>
          <p:nvSpPr>
            <p:cNvPr id="182" name=""/>
            <p:cNvSpPr/>
            <p:nvPr/>
          </p:nvSpPr>
          <p:spPr>
            <a:xfrm>
              <a:off x="596880" y="2089080"/>
              <a:ext cx="2984400" cy="56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t (caused by…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76000" y="2089080"/>
              <a:ext cx="3186720" cy="569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t (spend for…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800280" y="2658240"/>
              <a:ext cx="1440" cy="28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42440" y="3014280"/>
              <a:ext cx="3324960" cy="71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t Center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 incl. Investment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1720" y="3227400"/>
              <a:ext cx="5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1720" y="4649040"/>
              <a:ext cx="5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1720" y="4079880"/>
              <a:ext cx="5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42440" y="3866400"/>
              <a:ext cx="3324960" cy="42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sultant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25 %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42440" y="4435920"/>
              <a:ext cx="3324960" cy="63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iscellaneous/Material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0280" y="5501160"/>
              <a:ext cx="5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42440" y="5216760"/>
              <a:ext cx="3324960" cy="71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th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254304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.g. special licenses, GP allocation etc.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02760" y="3368880"/>
              <a:ext cx="135000" cy="2204280"/>
            </a:xfrm>
            <a:custGeom>
              <a:avLst/>
              <a:gdLst>
                <a:gd name="textAreaLeft" fmla="*/ 0 w 135000"/>
                <a:gd name="textAreaRight" fmla="*/ 48600 w 135000"/>
                <a:gd name="textAreaTop" fmla="*/ 57240 h 2204280"/>
                <a:gd name="textAreaBottom" fmla="*/ 2147040 h 220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66040" y="2658240"/>
              <a:ext cx="0" cy="56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39720" y="3227400"/>
              <a:ext cx="3191040" cy="2487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&amp;D Proje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 Product projects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60 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 Predevelopment / Components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30 %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 Basics, patents, Licenses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10 %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Tooling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153040" y="5925960"/>
            <a:ext cx="2378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Times New Roman"/>
              </a:rPr>
              <a:t>1) Cost for changes in tooling before M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8240" y="958680"/>
            <a:ext cx="2735280" cy="576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d52603"/>
                </a:solidFill>
                <a:latin typeface="Times New Roman"/>
              </a:rPr>
              <a:t>Financial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50040" y="958680"/>
            <a:ext cx="2735280" cy="576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d52603"/>
                </a:solidFill>
                <a:latin typeface="Times New Roman"/>
              </a:rPr>
              <a:t>Project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1628640"/>
            <a:ext cx="289080" cy="360360"/>
          </a:xfrm>
          <a:prstGeom prst="downArrow">
            <a:avLst>
              <a:gd name="adj1" fmla="val 50000"/>
              <a:gd name="adj2" fmla="val 3116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88000" y="1628640"/>
            <a:ext cx="289080" cy="360360"/>
          </a:xfrm>
          <a:prstGeom prst="downArrow">
            <a:avLst>
              <a:gd name="adj1" fmla="val 50000"/>
              <a:gd name="adj2" fmla="val 3116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14640" y="1103400"/>
            <a:ext cx="1081080" cy="287280"/>
          </a:xfrm>
          <a:prstGeom prst="leftRightArrow">
            <a:avLst>
              <a:gd name="adj1" fmla="val 50000"/>
              <a:gd name="adj2" fmla="val 749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8360" y="1557360"/>
            <a:ext cx="8207280" cy="338436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pecific Challenges in FY2006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monization R&amp;D Controlling between PHE and PHA (e.g. planning, repor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arability of figures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-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Ensure R&amp;D cost target 250 Mill. Euro for European R&amp;D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Introduction and follow up of specific KPI‘s for Product Develop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(e.g. measures for productivity improvement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urther automation of R&amp;D controlling by enhancing existing controlling tools and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Integration of RD BA + TPM BA into one controlling group to realize synerg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nd cost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a0e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9600" y="23796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Arial"/>
                <a:ea typeface="文鼎中黑"/>
              </a:rPr>
              <a:t>3.    Specific Challenges in FY2006</a:t>
            </a:r>
            <a:br>
              <a:rPr sz="2400"/>
            </a:br>
            <a:r>
              <a:rPr b="0" lang="zh-TW" sz="2000" spc="-1" strike="noStrike">
                <a:solidFill>
                  <a:srgbClr val="3a0e66"/>
                </a:solidFill>
                <a:latin typeface="Arial"/>
                <a:ea typeface="文鼎中黑"/>
              </a:rPr>
              <a:t>BMG RD 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abine Boneberg</cp:lastModifiedBy>
  <dcterms:modified xsi:type="dcterms:W3CDTF">2006-05-24T12:53:13Z</dcterms:modified>
  <cp:revision>153</cp:revision>
  <dc:subject/>
  <dc:title>PowerPoint 簡報</dc:title>
</cp:coreProperties>
</file>